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2AC5-BEEA-4447-862A-9FA21C9A9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EDE1-7AEE-4F57-8EF0-36AAB3E7E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YOU HAVE HUGE SPREAD OF BACKGROUNDS AND ABILITIES IN YOUR CLASSES - JUST LIKE TEACHING, HARD TO PITCH THIS TALK AT RIGHT LEVEL . HOPEFULLY SOMETHING OF INTEREST TO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FDD1-011C-40E3-A055-FDE69D103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peak without mercy’ – do not accommodate, do not listen like ESL teachers (hear in a special way – make adjustments for accent, flip the word order, change the tense, guess meanings from context, and scaffold the next turn).  Other people don’t do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quote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rrival program where social membership extended  irony; no, here, no.  Look at conditions surrounding the new arrivals program </a:t>
            </a:r>
            <a:r>
              <a:rPr b="0" lang="en-A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Ph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B5FF-9E95-4A6D-9E8F-504DA0EF1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peak without mercy’ – do not accommodate, do not listen like ESL teachers (hear in a special way – make adjustments for accent, flip the word order, change the tense, guess meanings from context, and scaffold the next turn).  Other people don’t do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quote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rrival program where social membership extended  irony; no, here, no.  Look at conditions surrounding the new arrivals program </a:t>
            </a:r>
            <a:r>
              <a:rPr b="0" lang="en-A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Ph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8B44-D0A2-4B89-AE40-D3B7A4CDD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18FA-C0E9-4015-B4C2-E2B0B1E28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RITICAL TO TEACH NOTE-TA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07AC-320C-4CA1-9573-DB5162B21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AD07-F81C-448C-9178-CEBDA9E14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+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f text has 250 words on page – only 20 – 25 can be new or difficul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ever approach you have to content and curriculum 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 - class time not enough.  How do we engage people in practising out of hou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449C-622D-44A5-A938-A8232685E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2 takes on literacy an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he fields of SLA, content based language teaching, scaffolding and mainstream literacy provide many models for negotiating and generating text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hese models are based on research  which mostly stems from ESL, EFL, or mainstream literacy.  Language focused research rarely targets low literacy refugee learners with interrupted school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2C8A-5E6D-4296-A6F4-181A77CBD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rehensible input - I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spcAft>
                <a:spcPts val="374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3333cc"/>
                </a:solidFill>
                <a:latin typeface="Arial"/>
              </a:rPr>
              <a:t>meaning is the primary foc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spcAft>
                <a:spcPts val="374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language practice is contextuali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ide range of doable activities &amp; strate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all macroskills are included (comprehension = the baselin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spcAft>
                <a:spcPts val="374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3333cc"/>
                </a:solidFill>
                <a:latin typeface="Arial"/>
              </a:rPr>
              <a:t>enjoyment</a:t>
            </a:r>
            <a:r>
              <a:rPr b="0" lang="en-AU" sz="1000" spc="-1" strike="noStrike">
                <a:solidFill>
                  <a:srgbClr val="3333cc"/>
                </a:solidFill>
                <a:latin typeface="Arial"/>
              </a:rPr>
              <a:t> of reading as a go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7D4F-4814-43B8-A35C-9CC977267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C2D3-4199-4FE1-B612-34F54AC7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7139-AEDA-4A28-8DAD-8237F7494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F6A9-4431-4A59-BAEB-832916AA6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1BFB-88F1-4868-8B6D-3D140CF8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DF3F-AB5D-49D8-A1F6-3ABF1F65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14C4-1404-4F16-A06B-6A640939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14D6-0146-454A-B293-834989DA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B1E8-4338-45E6-9BD1-C057383F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F34D-D495-4579-90AF-50B1127E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A676-9643-4D0D-A8F3-B04EAB11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2FBB-94E8-478A-8D12-57103A2C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4FEA-067A-42D1-8F5A-1FE0751B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D0F7-D51F-41EE-9D10-A22400FD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7917-D8A7-4360-93CC-22C76F94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5A72-6009-4FF4-8816-02EAA523F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8438-4BBE-43F6-BF13-116C7B364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6D18-D3F2-40EE-A35B-5A1155E2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FC72-81F8-413F-8DED-57F4200B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3EE4-77F1-4846-ADFB-A5F9FCC1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425A-2460-4690-AF16-B0E5E565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E82B-DD43-44E1-9B37-9936D687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90E0-9AA7-4986-AF7C-A22D1E4A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9C71-4572-40F6-93CF-B58E3B71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3988-BFEC-4C1D-A8AE-D009FEC7A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5B70-E92C-4A89-BF80-30853930E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57736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REHENSION AND VOCABULARY: THE BUILDING BLOCKS OF LITERA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1760" y="2362320"/>
            <a:ext cx="8110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L Conferenc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nny.miller@education.monash.edu.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images.jpg"/>
          <p:cNvPicPr/>
          <p:nvPr/>
        </p:nvPicPr>
        <p:blipFill>
          <a:blip r:embed="rId1"/>
          <a:stretch/>
        </p:blipFill>
        <p:spPr>
          <a:xfrm>
            <a:off x="3733920" y="2438280"/>
            <a:ext cx="1333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23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5400" spc="-1" strike="noStrike">
                <a:solidFill>
                  <a:srgbClr val="3333cc"/>
                </a:solidFill>
                <a:latin typeface="Arial"/>
              </a:rPr>
              <a:t>Explicit teaching</a:t>
            </a:r>
            <a:r>
              <a:rPr b="1" lang="en-AU" sz="4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539640" y="1413000"/>
            <a:ext cx="8064720" cy="91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1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1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 systematic and explicit focus o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vocabulary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(form, meaning &amp; use)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ntence structure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rammatical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100"/>
              </a:spcBef>
              <a:spcAft>
                <a:spcPts val="104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cycling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vising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the language structures are vital for memory and languag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1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1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1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1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23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5400" spc="-1" strike="noStrike">
                <a:solidFill>
                  <a:srgbClr val="3333cc"/>
                </a:solidFill>
                <a:latin typeface="Arial"/>
              </a:rPr>
              <a:t>Choosing the text</a:t>
            </a:r>
            <a:r>
              <a:rPr b="1" lang="en-AU" sz="4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6877080" y="549360"/>
            <a:ext cx="431640" cy="0"/>
          </a:xfrm>
          <a:prstGeom prst="line">
            <a:avLst/>
          </a:prstGeom>
          <a:ln w="38160">
            <a:solidFill>
              <a:srgbClr val="af9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539640" y="1557360"/>
            <a:ext cx="8064720" cy="71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insically interesting / relev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too long or too difficul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lust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larg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nts with easy layout (modified inp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genre (but usable as a springboard to other gen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iring or informative or quirk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r all 3!)  We want students to respo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spcAft>
                <a:spcPts val="901"/>
              </a:spcAft>
              <a:buClr>
                <a:srgbClr val="af9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1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1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98400" y="533160"/>
            <a:ext cx="657036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3333cc"/>
                </a:solidFill>
                <a:latin typeface="Arial"/>
              </a:rPr>
              <a:t>Reading the text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755640" y="1916280"/>
            <a:ext cx="7488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 teacher reads a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 teacher/ s’o else records th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 teacher reads leaving gaps (SS fill in or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 students read in pairs/grou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students read in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 students read around the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 students rehearse a section at ho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 students record themselves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4 phase approach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reading activities (activate prior k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meaning (macro level)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ist, main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meaning (micro level)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tail + attention to forms [vocab; grammar; genre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read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reating and having fun with text; ‘critical’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(image) – news articl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er goes headfirst into great white’s jaws and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ead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ereading (activate prior learning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headline only – predict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3 questions could we ask about this stor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 picture of a shark – 5 mins brainstorm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nk to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‘Has anyone ever been bitten or attacked by an animal?’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acro-level tasks - gis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762120" y="2286000"/>
          <a:ext cx="8110440" cy="3749760"/>
        </p:xfrm>
        <a:graphic>
          <a:graphicData uri="http://schemas.openxmlformats.org/drawingml/2006/table">
            <a:tbl>
              <a:tblPr/>
              <a:tblGrid>
                <a:gridCol w="3233520"/>
                <a:gridCol w="4876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&amp;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atching sentence halv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912960" y="1905120"/>
          <a:ext cx="8110440" cy="3301920"/>
        </p:xfrm>
        <a:graphic>
          <a:graphicData uri="http://schemas.openxmlformats.org/drawingml/2006/table">
            <a:tbl>
              <a:tblPr/>
              <a:tblGrid>
                <a:gridCol w="687240"/>
                <a:gridCol w="3367080"/>
                <a:gridCol w="595440"/>
                <a:gridCol w="3460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The diver was looking f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to punch the shark in the ey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Everything went bl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near the border of NSW and Victo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The man used his right a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that the shark was very bi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Eric’s son Mark was in the b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abal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Cape How is a fishing sp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and helped pull his father out of the 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Eric told the pol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because he was in the mouth of a great white sh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5" name="TextBox 7"/>
          <p:cNvSpPr/>
          <p:nvPr/>
        </p:nvSpPr>
        <p:spPr>
          <a:xfrm>
            <a:off x="1295280" y="57913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Arial"/>
              </a:rPr>
              <a:t>1.       2.       3.         4.        5.        6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icro level task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2600" y="1904760"/>
            <a:ext cx="8110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-meaning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phabetical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ling a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 chains / concept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ze (paraphrase of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ng a word bank/ word wall/ word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lling and vocabulary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 comp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mbled word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dmap of this gen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Grammar task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anistanthismaskwassmashedintohis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t tense (underline in gre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speech (underline in r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 nouns (circle in bl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classes (sort a box of vocab into grou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ence line-ups (envelop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ence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iteracy SKILL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bodily dimension of writing, that is sitting and labouring to construct a text, which i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abituated techniqu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proficient writers, is generally taken for granted within contemporary literacy pedagogy.’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Knapp &amp; Watkins, 2005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. 8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What else is taken for grante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ample tasks (post-reading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your group, talk about why animals attac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.  Make no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and perform the TV news excerpt on th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an email from the man’s son to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story from the shark’s point of 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 a concept map of harmfu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tralian animals (land, sea and 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animal in the concept map, add a terrif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iterative adjective to describe it.  E.g. terrify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ipan, furious funnel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a research project on another survival s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912600" y="-360"/>
            <a:ext cx="81104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hop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Helvetic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analysis (vocab list; difficulties; goals or foc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Helvetic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reading tasks + suggest addition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Helvetic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 meaning – macro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Helvetic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 meaning micro level (vocabul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Helvetic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 meaning micro level (gramm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Helvetic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–reading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100" spc="-1" strike="noStrike">
                <a:solidFill>
                  <a:srgbClr val="3333cc"/>
                </a:solidFill>
                <a:latin typeface="Arial"/>
              </a:rPr>
              <a:t>Research on comprehension &amp; vocab</a:t>
            </a:r>
            <a:endParaRPr b="0" lang="en-US" sz="3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peatedly demonstrates a strong relationship between vocabulary knowledge and reading comprehension  </a:t>
            </a: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[Proportion of difficult words in a text = single most reliable predictor of its difficulty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Vocabulary development is both an outcome of comprehension and a precursor to it, with word meanings making up as much as 70-80% of 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irect instruction in vocabulary influences comprehension more than any other factor. Although wide reading can build word knowledge, students need thoughtful and systematic instruction in key vocabulary as we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eaching fewer words well is more effective than teaching many words in a cursory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87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Some literacy basic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642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students to read a text with ease, </a:t>
            </a:r>
            <a:r>
              <a:rPr b="1" lang="en-US" sz="2400" spc="-1" strike="noStrike">
                <a:solidFill>
                  <a:srgbClr val="9a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th some help from the teacher, they need to recognize ove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0-95% of the vocabul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Nation, 2001; Westwood, 200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low literacy learners, a ‘whole language’ approach must be supplemented by an explicit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tinuing focus on building sight vocabulary and comprehension strateg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(Westwood, 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Arial"/>
              </a:rPr>
              <a:t>Insights from theory about reading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rior knowledge is needed to gain meaning from tex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emantic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= knowledge of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yntactic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= knowledge of the structure of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Graphophonic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knowledge of sound-letter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se are used simultane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380520"/>
            <a:ext cx="8163000" cy="12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Q. Where do we get our ideas about teaching literacy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. Models of literacy pedagog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 u="sng">
                <a:solidFill>
                  <a:srgbClr val="003366"/>
                </a:solidFill>
                <a:uFillTx/>
                <a:latin typeface="Arial"/>
              </a:rPr>
              <a:t>The curriculum cycle</a:t>
            </a:r>
            <a:r>
              <a:rPr b="1" lang="en-AU" sz="4400" spc="-1" strike="noStrike">
                <a:solidFill>
                  <a:srgbClr val="003366"/>
                </a:solidFill>
                <a:latin typeface="Arial"/>
              </a:rPr>
              <a:t>   </a:t>
            </a:r>
            <a:br>
              <a:rPr sz="4400"/>
            </a:br>
            <a:r>
              <a:rPr b="1" lang="en-AU" sz="2800" spc="-1" strike="noStrike">
                <a:solidFill>
                  <a:srgbClr val="003366"/>
                </a:solidFill>
                <a:latin typeface="Arial"/>
              </a:rPr>
              <a:t>(e.g. Derewianka; Gibbon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Building the field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(content knowledge, vocabulary, speaking, listening, viewing, reading, understanding, note-ta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Modeling the tex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(purpose, structure, language features, for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Joint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(Teacher and students write a sample text together; illustrating the process of writing; content + langu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Independent wr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(Students plan, write and redraft their own text)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Arial"/>
              </a:rPr>
              <a:t>Reader roles (Luke &amp; Freebody 1990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de br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xt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xt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xt anal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3333cc"/>
                </a:solidFill>
                <a:latin typeface="Arial"/>
              </a:rPr>
              <a:t>Transformative pedagogy</a:t>
            </a:r>
            <a:r>
              <a:rPr b="1" lang="en-AU" sz="4800" spc="-1" strike="noStrike">
                <a:solidFill>
                  <a:srgbClr val="3333cc"/>
                </a:solidFill>
                <a:latin typeface="Arial"/>
              </a:rPr>
              <a:t>  </a:t>
            </a:r>
            <a:br>
              <a:rPr sz="4800"/>
            </a:br>
            <a:r>
              <a:rPr b="1" lang="en-AU" sz="2800" spc="-1" strike="noStrike">
                <a:solidFill>
                  <a:srgbClr val="3333cc"/>
                </a:solidFill>
                <a:latin typeface="Arial"/>
              </a:rPr>
              <a:t>Cummins (200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Pedagogical focus on meaning, language and 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af9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Experiential phase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(activating prior knowled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af9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Literal phase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(comprehension – who, what, where,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when, how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af9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Personal phase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(compare and contrast with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personal experi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af9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Critical phase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(inferences, generalisations,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alternatives, hows/wh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af9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Creative phase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(actions eg letter to editor, survey, play, art, newslet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05:44:56Z</dcterms:created>
  <dc:creator>Faculty of Education</dc:creator>
  <dc:description/>
  <dc:language>en-US</dc:language>
  <cp:lastModifiedBy>DEET</cp:lastModifiedBy>
  <cp:lastPrinted>2008-01-07T07:00:09Z</cp:lastPrinted>
  <dcterms:modified xsi:type="dcterms:W3CDTF">2009-12-02T00:54:51Z</dcterms:modified>
  <cp:revision>54</cp:revision>
  <dc:subject/>
  <dc:title>PowerPoint Presentation</dc:title>
</cp:coreProperties>
</file>